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B799-4B14-4C4F-94CC-82039D52D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:  “Hello my name is Ana Cruz and we are going to present our visual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riana:  Hello my name is Adriana Vera.  We need one cup of water and we pour to the other cup to take it to Cruz and she will continue the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:  Lisbey will finish the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bey:  This is the final step.  The only thing that you’ll need is; put the disk case on top of the cup and turn it upside d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the water stay like that is the force of th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, Lisbey, Adriana:  This is our final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25F-B105-4385-AC64-3A4D99D6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1E10-ABDD-4FA8-A233-4E867936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868-D489-4B57-B47E-9CA4132F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92B-7AF1-4CED-810A-2D0AC92A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DE403-4EDC-4ED4-981A-93712E02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218D4-0C4E-47BF-89CA-7F4847EC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A34EE-A842-4257-991F-DC0C50B4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A1C5C-C70C-420C-8015-784F4413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0349B-651D-4F0C-A315-9BDAA238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A8EEC-8DE8-41E0-AB7F-A8D194B8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68A54-AAF4-4724-B10E-6F6E5E2F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EBAF-93ED-4B69-AD7A-35DDB74F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9F4E5-0876-404C-AA87-76889139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9F60D-199E-41A8-901F-1357C8D1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3EBEB-7659-4932-85D4-6F7D10B0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7A6F0-6760-4EFF-B5E9-4A6038B7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C05A1-D728-40C7-AB32-09542F5D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8523-4994-41CA-86A5-77573F9D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255F-9D0C-49F6-878B-8AB779F5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B14-D41D-43F4-B17D-D7C5E110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15B1-8AA0-4CDE-8FEB-290D49E3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226-0D5A-4FCD-8608-84F61A0A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D32-76CB-435C-84E9-FA5D87B4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405-3357-4930-B90D-6A322FA2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009B-B6D1-44E7-8897-9C675F1C69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304B-D32F-4CB6-AC69-BEB34231F4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arsupply.com/images/plastic-cups.jpg&amp;imgrefurl=http://hipcandy.blogspot.com/2008/07/dress-innovation-on-project-runway.html&amp;usg=__PF8dGBsmgmT-jzYmr9WtiNJk7cs=&amp;h=351&amp;w=500&amp;sz=70&amp;hl=en&amp;start=2&amp;tbnid=h8xhTSTRQqqB-M:&amp;tbnh=91&amp;tbnw=130&amp;prev=/images%3Fq%3Dcups%26gbv%3D2%26hl%3Den%26sa%3D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kangenforall.com/waterCup2.jpg&amp;imgrefurl=http://www.kangenforall.com/&amp;usg=__MUstpQOyS_rg1WupjaWuIs95kHU=&amp;h=251&amp;w=164&amp;sz=7&amp;hl=en&amp;start=2&amp;tbnid=VZ0TKzZgPatMfM:&amp;tbnh=111&amp;tbnw=73&amp;prev=/images%3Fq%3Dwater%2Bcups%26gbv%3D2%26hl%3Den%26sa%3DG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Tahoma"/>
              </a:rPr>
              <a:t>Cup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Elevated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I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Air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By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Lizbey Berna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Ana Cru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driana V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0326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QUIREM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Cu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Water C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Disk C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260440"/>
            <a:ext cx="1600200" cy="1121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15200" y="2057400"/>
            <a:ext cx="1046160" cy="1590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6095880" y="4267080"/>
            <a:ext cx="1447920" cy="1420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457200" y="1143000"/>
            <a:ext cx="8228880" cy="4113360"/>
            <a:chOff x="457200" y="1143000"/>
            <a:chExt cx="8228880" cy="4113360"/>
          </a:xfrm>
        </p:grpSpPr>
        <p:cxnSp>
          <p:nvCxnSpPr>
            <p:cNvPr id="100" name="_s8205"/>
            <p:cNvCxnSpPr>
              <a:stCxn id="101" idx="0"/>
              <a:endCxn id="102" idx="2"/>
            </p:cNvCxnSpPr>
            <p:nvPr/>
          </p:nvCxnSpPr>
          <p:spPr>
            <a:xfrm flipV="1" rot="16200000">
              <a:off x="5599800" y="1758600"/>
              <a:ext cx="823320" cy="288072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" name="_s8204"/>
            <p:cNvCxnSpPr>
              <a:stCxn id="104" idx="0"/>
              <a:endCxn id="102" idx="2"/>
            </p:cNvCxnSpPr>
            <p:nvPr/>
          </p:nvCxnSpPr>
          <p:spPr>
            <a:xfrm flipV="1">
              <a:off x="4571280" y="2787480"/>
              <a:ext cx="3240" cy="823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8203"/>
            <p:cNvCxnSpPr>
              <a:stCxn id="106" idx="0"/>
              <a:endCxn id="102" idx="2"/>
            </p:cNvCxnSpPr>
            <p:nvPr/>
          </p:nvCxnSpPr>
          <p:spPr>
            <a:xfrm flipH="1" flipV="1" rot="5400000">
              <a:off x="2719800" y="1758960"/>
              <a:ext cx="823320" cy="288072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2" name="_s8199"/>
            <p:cNvSpPr/>
            <p:nvPr/>
          </p:nvSpPr>
          <p:spPr>
            <a:xfrm>
              <a:off x="3337200" y="114300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ahoma"/>
                </a:rPr>
                <a:t>3 step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8200"/>
            <p:cNvSpPr/>
            <p:nvPr/>
          </p:nvSpPr>
          <p:spPr>
            <a:xfrm>
              <a:off x="457200" y="361116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10199"/>
                  </a:solidFill>
                  <a:latin typeface="Tahoma"/>
                </a:rPr>
                <a:t>1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Fill one cup of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wate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8201"/>
            <p:cNvSpPr/>
            <p:nvPr/>
          </p:nvSpPr>
          <p:spPr>
            <a:xfrm>
              <a:off x="3337200" y="361116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10199"/>
                  </a:solidFill>
                  <a:latin typeface="Tahoma"/>
                </a:rPr>
                <a:t>2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Put disk case on the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cup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8202"/>
            <p:cNvSpPr/>
            <p:nvPr/>
          </p:nvSpPr>
          <p:spPr>
            <a:xfrm>
              <a:off x="6217560" y="361116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10199"/>
                  </a:solidFill>
                  <a:latin typeface="Tahoma"/>
                </a:rPr>
                <a:t>3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Turn the cup with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the disk case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Upside down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6104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17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PROJE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828800" y="152388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504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21:59:10Z</dcterms:created>
  <dc:creator>Dalia</dc:creator>
  <dc:description/>
  <dc:language>en-US</dc:language>
  <cp:lastModifiedBy>aselby</cp:lastModifiedBy>
  <dcterms:modified xsi:type="dcterms:W3CDTF">2009-02-27T17:15:48Z</dcterms:modified>
  <cp:revision>7</cp:revision>
  <dc:subject/>
  <dc:title>Cup Elevated In The Air </dc:title>
</cp:coreProperties>
</file>